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1619E-7F81-465A-957F-8BECD5812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B2D3-4121-4228-A965-15AF965F0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78E41-AB5B-4AF0-8B16-BA18B0713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3BF15-BB7F-42C1-9A17-7AF3BFE14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E2783-4600-46B9-9D70-E6C2EAADC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FA432-8757-4A36-ABB6-FEBA78019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C49C4E-CA16-4086-BCC0-AA57BEEE2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75C7E-2C84-4F18-AEBD-3B472E2DE5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AC487-C72F-4634-A7A0-0E3BCE120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285640"/>
            <a:ext cx="7772400" cy="5299560"/>
          </a:xfrm>
          <a:prstGeom prst="rect">
            <a:avLst/>
          </a:prstGeom>
          <a:noFill/>
          <a:ln w="0">
            <a:noFill/>
          </a:ln>
        </p:spPr>
        <p:txBody>
          <a:bodyPr lIns="92160" rIns="92160" tIns="46080" bIns="4608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DE549-681A-4424-AB69-14D100571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0B797-9765-417A-8632-9DA92409B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7C920-B6E8-4BFB-8B2B-38B1A6C9E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74B92-9CB2-4691-9EA1-65F681087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0844E-0872-40CF-A343-5B54C3D06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C15AC-4E17-41B5-957E-F772B587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CCE73-E341-4E54-96A5-3800C3315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E1D20-CF83-4451-A1EE-4D1EF8BA5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B6018-F92C-469C-94FA-88FAEF44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6620-5CF6-4952-846D-DF4A33255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EDD65-FECE-46AA-8463-2523EFD54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285640"/>
            <a:ext cx="7772400" cy="5299560"/>
          </a:xfrm>
          <a:prstGeom prst="rect">
            <a:avLst/>
          </a:prstGeom>
          <a:noFill/>
          <a:ln w="0">
            <a:noFill/>
          </a:ln>
        </p:spPr>
        <p:txBody>
          <a:bodyPr lIns="92160" rIns="92160" tIns="46080" bIns="4608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16D7-BF78-4951-AE4F-3B406C2BD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E4C1-3766-4EEC-AB75-E8E882DE2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233F-ADCE-4969-B3D0-D9398B742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C601D-52CC-48CD-89A0-853C9FEC4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32FC-78C7-4961-B43F-E1056EC7195A}"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5A96-0B25-41AA-89A9-32059AC25488}"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 Würmer und Trojaner</a:t>
            </a:r>
            <a:endParaRPr b="0" lang="en-US" sz="4400" spc="-1" strike="noStrike">
              <a:solidFill>
                <a:srgbClr val="0066ff"/>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99"/>
                </a:solidFill>
                <a:latin typeface="Arial"/>
              </a:rPr>
              <a:t>Seminar von Matthias Müller am 22.07.2004</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Polymorphe Viren</a:t>
            </a:r>
            <a:endParaRPr b="0" lang="en-US" sz="4400" spc="-1" strike="noStrike">
              <a:solidFill>
                <a:srgbClr val="0066ff"/>
              </a:solidFill>
              <a:latin typeface="Times New Roman"/>
            </a:endParaRPr>
          </a:p>
        </p:txBody>
      </p:sp>
      <p:sp>
        <p:nvSpPr>
          <p:cNvPr id="10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erändern "Gestalt" während der Verbreitung</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utations-Engines können Milliarden von Mutations-Routinen generier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ngine kann komplexer sein, als der Virus selbs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s kann auch die Verschlüsselungs-Routine durch Umstellen der Reihenfolge der Instruktionen verändert werden</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3FB4A1FE-FD84-43CD-BAC3-46ED34F2B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Würmer</a:t>
            </a:r>
            <a:endParaRPr b="0" lang="en-US" sz="4400" spc="-1" strike="noStrike">
              <a:solidFill>
                <a:srgbClr val="0066ff"/>
              </a:solidFill>
              <a:latin typeface="Times New Roman"/>
            </a:endParaRPr>
          </a:p>
        </p:txBody>
      </p:sp>
      <p:sp>
        <p:nvSpPr>
          <p:cNvPr id="11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gr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eitet eine vollständige, lauffähige Version auf andere Rechn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aucht Ressourcen des Hosts oder/und des Netzwerks</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87929992-4307-45B0-8AEF-A9D0E3D26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oaxes</a:t>
            </a:r>
            <a:endParaRPr b="0" lang="en-US" sz="4400" spc="-1" strike="noStrike">
              <a:solidFill>
                <a:srgbClr val="0066ff"/>
              </a:solidFill>
              <a:latin typeface="Times New Roman"/>
            </a:endParaRPr>
          </a:p>
        </p:txBody>
      </p:sp>
      <p:sp>
        <p:nvSpPr>
          <p:cNvPr id="1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e Art ‘codeloser' Wurm: Hoax</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alschnachrichten ('Zeitungsente'), in denen die Aufforderung zum Weiterversand enthalten is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spiel: HIV-Hoax (erstes Auftreten Anfang Dezember 2003)</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999E8D71-BB03-472A-B3CA-BA22478584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oaxes</a:t>
            </a:r>
            <a:endParaRPr b="0" lang="en-US" sz="4400" spc="-1" strike="noStrike">
              <a:solidFill>
                <a:srgbClr val="0066ff"/>
              </a:solidFill>
              <a:latin typeface="Times New Roman"/>
            </a:endParaRPr>
          </a:p>
        </p:txBody>
      </p:sp>
      <p:sp>
        <p:nvSpPr>
          <p:cNvPr id="11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DURCHLESEN UND WEITERLEITEN!!!</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	</a:t>
            </a:r>
            <a:r>
              <a:rPr b="1" lang="de-DE" sz="1400" spc="-1" strike="noStrike">
                <a:solidFill>
                  <a:srgbClr val="336699"/>
                </a:solidFill>
                <a:latin typeface="Arial"/>
              </a:rPr>
              <a:t>[...] Vor einigen Wochen hat sich in einem Kino eine Person auf etwas Spitziges gesetzt, das sich auf einem der Sitze befand. Als Sie sich wieder aufgerichtet hat, um zu sehen, um was es sich handelte, da hat sie eine Nadel gefunden, die in den Sitz gestochen war mit einer befestigten Notiz: "Sie wurden soeben durch das HIV infiziert".  Das Kontrollzentrum der Krankheiten berichtet über mehrere ähnliche Ereignisse kürzlich vorgekommen in mehreren anderen Städten. Alle getesteten Nadeln SIND HIV positiv. [...] Alle öffentlichen Stühle müssen mit Wachsamkeit und Vorsicht vor Gebrauch untersucht werden. [...] Außerdem fordern sie jeden auf, allen Mitgliedern Ihrer Familie und Ihrer Freunde diese Nachricht zu übermitteln. Danke. Dies ist sehr wichtig!!! Denk, dass du ein Leben retten kannst, indem du diese Nachricht weiter verteilst. BITTE nimm dir einige Sekunden deiner Zeit, um die Mitteilung zu lesen und weiterzuleiten.</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LKA Öffentlichkeitsarbeit"</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Quelle: http://www.bsi.bund.de/av/vb/hiv-hoax.htm (28.04.2004)</a:t>
            </a:r>
            <a:endParaRPr b="1" lang="en-US" sz="1400" spc="-1" strike="noStrike">
              <a:solidFill>
                <a:srgbClr val="336699"/>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Anmerkung: diese mail stammt NICHT vom LKA, der Inhalt ist unwahr!</a:t>
            </a:r>
            <a:endParaRPr b="1" lang="en-US" sz="1400" spc="-1" strike="noStrike">
              <a:solidFill>
                <a:srgbClr val="336699"/>
              </a:solidFill>
              <a:latin typeface="Arial"/>
            </a:endParaRPr>
          </a:p>
        </p:txBody>
      </p:sp>
      <p:sp>
        <p:nvSpPr>
          <p:cNvPr id="4" name="PlaceHolder 3"/>
          <p:cNvSpPr>
            <a:spLocks noGrp="1"/>
          </p:cNvSpPr>
          <p:nvPr>
            <p:ph type="sldNum" idx="3"/>
          </p:nvPr>
        </p:nvSpPr>
        <p:spPr/>
        <p:txBody>
          <a:bodyPr/>
          <a:p>
            <a:fld id="{9BDD4709-E094-4DE5-B0DA-BE192F8C6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Trojaner</a:t>
            </a:r>
            <a:endParaRPr b="0" lang="en-US" sz="4400" spc="-1" strike="noStrike">
              <a:solidFill>
                <a:srgbClr val="0066ff"/>
              </a:solidFill>
              <a:latin typeface="Times New Roman"/>
            </a:endParaRPr>
          </a:p>
        </p:txBody>
      </p:sp>
      <p:sp>
        <p:nvSpPr>
          <p:cNvPr id="11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gr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ann, versteckt hinter einer offiziellen Funktion, 'herkömmliche' Viren und Würmer enthalten</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nthält of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ylogg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ernsteuerung (Hintertür)</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9C39ABE-1FD6-405A-B0C7-A43103A57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Trojaner</a:t>
            </a:r>
            <a:endParaRPr b="0" lang="en-US" sz="4400" spc="-1" strike="noStrike">
              <a:solidFill>
                <a:srgbClr val="0066ff"/>
              </a:solidFill>
              <a:latin typeface="Times New Roman"/>
            </a:endParaRPr>
          </a:p>
        </p:txBody>
      </p:sp>
      <p:sp>
        <p:nvSpPr>
          <p:cNvPr id="11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ispiel:</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KZIP Trojan Horse (März 1995)</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falsches PKZIP-Dekomprimierungstool</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löscht Festplatte wenn gestartet</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ele Screen-Saver (siehe eigene Inbox ;) )</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A13B829-EB8C-4D0D-8930-7923CB7FA0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rstes Malware-Vorkommen waren Trojanische Pferde spätestens in den frühen 60er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udenten versuchten die Uni-eigenen Großrechenanlagen auszutricksen, um eine bevorzugte Ausführung ihrer Programme zu ermöglichen.</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ed Cohen testete 1984 auf verschiedenen Betriebssystemen Viren, die sich selber verbreiten konnt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ie Hacker-Szene griff die Ideen auf, einige Jahre später erschien der erste 'freie' Virus auf MS DOS-Rechnern </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OS war eine 'Monokultur', wie heute Windows -&gt; starke Verbreitung</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2400AD08-C934-4754-9297-57F48B131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Oktober 1986: erster 'In-the-Wild' Viru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rain" aus Pakista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tauchte auf einigen Dutzend Disketten an der Universität Delaware, USA auf.</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3E99DD04-40A2-4D9B-B69F-5D8FDED630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Internet Wurm 'sh', November 1988:</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schrieben von Robert Morris Jr. (Studen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as berühmteste Beispiel für 'Service Denial Attack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nützte eine Hand voll generellen und Betriebssystemspezifischen Schwachstellen, um sich zu verbreit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llgemein</a:t>
            </a:r>
            <a:endParaRPr b="1" lang="en-US" sz="16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Rate-Attacke, um Passwörter herauszufinden</a:t>
            </a:r>
            <a:endParaRPr b="1" lang="en-US" sz="14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rhost files wurden benutzt</a:t>
            </a:r>
            <a:endParaRPr b="1" lang="en-US" sz="14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Speziell:</a:t>
            </a:r>
            <a:endParaRPr b="1" lang="en-US" sz="16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sendmail-Probleme (debug-feature ausgenutzt)</a:t>
            </a:r>
            <a:endParaRPr b="1" lang="en-US" sz="1400" spc="-1" strike="noStrike">
              <a:solidFill>
                <a:srgbClr val="336699"/>
              </a:solidFill>
              <a:latin typeface="Arial"/>
            </a:endParaRPr>
          </a:p>
          <a:p>
            <a:pPr lvl="3" marL="1600200" indent="-228600">
              <a:spcBef>
                <a:spcPts val="34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6699"/>
                </a:solidFill>
                <a:latin typeface="Arial"/>
              </a:rPr>
              <a:t>fingered-bug (buffer overflow in fgets())]</a:t>
            </a:r>
            <a:endParaRPr b="1" lang="en-US" sz="1400" spc="-1" strike="noStrike">
              <a:solidFill>
                <a:srgbClr val="336699"/>
              </a:solidFill>
              <a:latin typeface="Arial"/>
            </a:endParaRPr>
          </a:p>
        </p:txBody>
      </p:sp>
      <p:sp>
        <p:nvSpPr>
          <p:cNvPr id="4" name="PlaceHolder 3"/>
          <p:cNvSpPr>
            <a:spLocks noGrp="1"/>
          </p:cNvSpPr>
          <p:nvPr>
            <p:ph type="sldNum" idx="3"/>
          </p:nvPr>
        </p:nvSpPr>
        <p:spPr/>
        <p:txBody>
          <a:bodyPr/>
          <a:p>
            <a:fld id="{A695A635-EB4C-4B10-9FBE-41BDE23DC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t>
            </a:r>
            <a:r>
              <a:rPr b="1" lang="de-DE" sz="2000" spc="-1" strike="noStrike">
                <a:solidFill>
                  <a:srgbClr val="336699"/>
                </a:solidFill>
                <a:latin typeface="Arial"/>
              </a:rPr>
              <a:t>sh‘ verschlüsselte seine Daten-Zeichenkett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ollte ein Experiment sein, AB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ug: Wurm erkannte nicht, wenn ein Computer schon befallen war</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gt; Internet brach teilweise durch zu starke Verbreitung zusammen</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gt; Wurm wirksamer als Atombombe</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D5C564DE-42F8-414D-AF2F-1CD3CBFD2D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66ff"/>
                </a:solidFill>
                <a:latin typeface="Times New Roman"/>
              </a:rPr>
              <a:t>Viren, Würmer und Trojaner: Malicious Code, oder kurz Malware (malicious: böswillig)</a:t>
            </a:r>
            <a:endParaRPr b="0" lang="en-US" sz="2800" spc="-1" strike="noStrike">
              <a:solidFill>
                <a:srgbClr val="0066ff"/>
              </a:solidFill>
              <a:latin typeface="Times New Roman"/>
            </a:endParaRPr>
          </a:p>
        </p:txBody>
      </p:sp>
      <p:sp>
        <p:nvSpPr>
          <p:cNvPr id="9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ipulieren, erstehlen oder zerstören Dat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stopfen Netzwerke</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legen Server durch zu viele Anfragen lahm (flood-attack)</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ehlen Ressourcen (v.a. bei Großrechenanlag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ählen teure Telefonnummern (die dem Malware-Schreiber gehören)</a:t>
            </a:r>
            <a:endParaRPr b="1" lang="en-US" sz="1800" spc="-1" strike="noStrike">
              <a:solidFill>
                <a:srgbClr val="336699"/>
              </a:solidFill>
              <a:latin typeface="Arial"/>
            </a:endParaRPr>
          </a:p>
          <a:p>
            <a:pPr marL="343080" indent="-34308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chen das System fernsteuerbar (erstellen einer 'Hintertür')</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5100E6D-EA5A-46CF-B37C-B6862447F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Historisches</a:t>
            </a:r>
            <a:endParaRPr b="0" lang="en-US" sz="4400" spc="-1" strike="noStrike">
              <a:solidFill>
                <a:srgbClr val="0066ff"/>
              </a:solidFill>
              <a:latin typeface="Times New Roman"/>
            </a:endParaRPr>
          </a:p>
        </p:txBody>
      </p:sp>
      <p:sp>
        <p:nvSpPr>
          <p:cNvPr id="12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späte 80er/frühe 90er Jahre: Viren sind offiziell zu einem Problem gewor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1991: erstes Release von Norton AntiVirus</a:t>
            </a:r>
            <a:endParaRPr b="1" lang="en-US" sz="18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1996: Makro-Viren machen von jetzt an die größte Viren-Gruppe in den USA aus, kurz darauf auch in den meisten anderen Ländern</a:t>
            </a:r>
            <a:endParaRPr b="1" lang="en-US" sz="20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eute (2004): einige Millionen infizierte PCs/Jahr, ca. (!) 50.000 Viren/Würmer/Trojaner</a:t>
            </a:r>
            <a:endParaRPr b="1" lang="en-US" sz="20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BE097507-A530-42C1-A03F-05A3CAB116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Hacker-Tricks</a:t>
            </a:r>
            <a:endParaRPr b="0" lang="en-US" sz="4400" spc="-1" strike="noStrike">
              <a:solidFill>
                <a:srgbClr val="0066ff"/>
              </a:solidFill>
              <a:latin typeface="Times New Roman"/>
            </a:endParaRPr>
          </a:p>
        </p:txBody>
      </p:sp>
      <p:sp>
        <p:nvSpPr>
          <p:cNvPr id="13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DO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com Dateien haben höhere Priorität als .exe Datei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triebssystem startet z.B. Scanreg.com vor Scanreg.exe</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Window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rnel manipulieren (FunLove Virus auf WinNT, 1999) -&gt; Administrator-Rechte</a:t>
            </a:r>
            <a:endParaRPr b="1" lang="en-US" sz="1800" spc="-1" strike="noStrike">
              <a:solidFill>
                <a:srgbClr val="3366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Keine Angriffsstelle im öffentlichen Code eines Systems gefun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Compiler verbreiten, der den Virus in das System heimlich miteinkompiliert (Thompson, 1984)</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6477D974-092E-4788-9B40-0F3D76C198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Internet-Explorer Schwachstellen</a:t>
            </a:r>
            <a:endParaRPr b="0" lang="en-US" sz="4400" spc="-1" strike="noStrike">
              <a:solidFill>
                <a:srgbClr val="0066ff"/>
              </a:solidFill>
              <a:latin typeface="Times New Roman"/>
            </a:endParaRPr>
          </a:p>
        </p:txBody>
      </p:sp>
      <p:sp>
        <p:nvSpPr>
          <p:cNvPr id="13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Installieren einer 'ToolBar' (Browser Help Object), die Daten ausspionie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t>
            </a:r>
            <a:r>
              <a:rPr b="1" lang="de-DE" sz="1800" spc="-1" strike="noStrike">
                <a:solidFill>
                  <a:srgbClr val="336699"/>
                </a:solidFill>
                <a:latin typeface="Arial"/>
              </a:rPr>
              <a:t>BHO-Trojaner‘ spionierte Online-Banking-Daten aus, u. a. von Citybank, Deutscher Bank und Sparkasse</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aden und Ausführen beliebiger Dateien über IE-Hilfe</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aden der eigenen, schädlichen Seite in das Frameset einer vertrauenswürdigen Seit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target eines Links auf der eigenen Seite = Namen eines frames einer fremden Seite angeben </a:t>
            </a:r>
            <a:r>
              <a:rPr b="1" i="1" lang="de-DE" sz="1800" spc="-1" strike="noStrike">
                <a:solidFill>
                  <a:srgbClr val="336699"/>
                </a:solidFill>
                <a:latin typeface="Arial"/>
              </a:rPr>
              <a:t>(siehe folgende Bild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Hacker-Seite ersetzt unbemerkt echte Seite (Phishing)</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9ACE7ACC-BE1D-4D8B-B734-01C6F73B2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njection1"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59D3CF7D-C8E0-46F6-BD47-70AF1722F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Injection2"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860FED0B-7DD4-43D6-8B43-98DD25F6D0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Injection3"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0251BAA7-891A-4AAC-96F2-1F67CC716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benennung</a:t>
            </a:r>
            <a:endParaRPr b="0" lang="en-US" sz="4400" spc="-1" strike="noStrike">
              <a:solidFill>
                <a:srgbClr val="0066ff"/>
              </a:solidFill>
              <a:latin typeface="Times New Roman"/>
            </a:endParaRPr>
          </a:p>
        </p:txBody>
      </p:sp>
      <p:sp>
        <p:nvSpPr>
          <p:cNvPr id="13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üher keine allgemein festgelegte Namengeb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wirrung, mehrere Namen für einen Virus/Wurm/Trojaner</a:t>
            </a:r>
            <a:endParaRPr b="1" lang="en-US" sz="18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eute gebräuchlich: Symantec/Norton Anti-Virus Namenskonventio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Name besteht aus: Prefix: u.a. Plattform, z.B.</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32: 32-bit Windows (95/98/M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NT: Windows NT</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M: Word Macro</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BS: geschrieben in VB Skriptsprach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Linux</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DoS: Denial of Servic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Backdoor: öffnet 'Hintertür'</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C4B82528-A762-4233-B99E-A48CB13D37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benennung</a:t>
            </a:r>
            <a:endParaRPr b="0" lang="en-US" sz="4400" spc="-1" strike="noStrike">
              <a:solidFill>
                <a:srgbClr val="0066ff"/>
              </a:solidFill>
              <a:latin typeface="Times New Roman"/>
            </a:endParaRPr>
          </a:p>
        </p:txBody>
      </p:sp>
      <p:sp>
        <p:nvSpPr>
          <p:cNvPr id="140"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Haupt-) Name: Familienname des Virus/Wurms/Trojaners</a:t>
            </a:r>
            <a:r>
              <a:rPr b="1" lang="de-DE" sz="1800" spc="-1" strike="noStrike">
                <a:solidFill>
                  <a:srgbClr val="336699"/>
                </a:solidFill>
                <a:latin typeface="Arial"/>
              </a:rPr>
              <a:t>	</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uffix (optional): Variant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 B, Y etc.: Variantennam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m: mailer</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mm: mass mailer</a:t>
            </a:r>
            <a:endParaRPr b="1" lang="en-US" sz="1600" spc="-1" strike="noStrike">
              <a:solidFill>
                <a:srgbClr val="336699"/>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ispiele (aktuelle Viren 07/04)</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32.Beagle.AB@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32.Mota.A@mm</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ackdoor.Ranky.H</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4A8380A-1663-4134-96C4-98B861857E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Malware Erkennung/Beseitigung</a:t>
            </a:r>
            <a:endParaRPr b="0" lang="en-US" sz="4400" spc="-1" strike="noStrike">
              <a:solidFill>
                <a:srgbClr val="0066ff"/>
              </a:solidFill>
              <a:latin typeface="Times New Roman"/>
            </a:endParaRPr>
          </a:p>
        </p:txBody>
      </p:sp>
      <p:sp>
        <p:nvSpPr>
          <p:cNvPr id="14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früher einfach, alle Dateien des Systems werden vom Anti-Viren-Programm als 'bereits befallen' markie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ald aufgrund der großen Dateimengen und hohen Anzahl von Viren nicht mehr möglich, Entwicklung von Scanner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0CFC13A1-8B82-4BCB-8852-74756C690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a:t>
            </a:r>
            <a:endParaRPr b="0" lang="en-US" sz="4400" spc="-1" strike="noStrike">
              <a:solidFill>
                <a:srgbClr val="0066ff"/>
              </a:solidFill>
              <a:latin typeface="Times New Roman"/>
            </a:endParaRPr>
          </a:p>
        </p:txBody>
      </p:sp>
      <p:sp>
        <p:nvSpPr>
          <p:cNvPr id="144"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prinzipiell einfach: verfolgen den 'Ausführungs-Pfad' der Executables, suchen nach bekannten Zeichenketten oder einem charakteristisches Bitmuster ("Signatur")</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anze Virus-Familien können z.B. durch gleichen Replikator erkannt werd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FBBB5C6B-A2F1-4EA5-9420-456E84C22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a:t>
            </a:r>
            <a:endParaRPr b="0" lang="en-US" sz="4400" spc="-1" strike="noStrike">
              <a:solidFill>
                <a:srgbClr val="0066ff"/>
              </a:solidFill>
              <a:latin typeface="Times New Roman"/>
            </a:endParaRPr>
          </a:p>
        </p:txBody>
      </p:sp>
      <p:sp>
        <p:nvSpPr>
          <p:cNvPr id="9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erkmale:</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Code-Stück, meist &lt; 4KB</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erbreitet sich selbständig</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gebettet in einem Host-Programm</a:t>
            </a:r>
            <a:endParaRPr b="1" lang="en-US" sz="2000" spc="-1" strike="noStrike">
              <a:solidFill>
                <a:srgbClr val="336699"/>
              </a:solidFill>
              <a:latin typeface="Arial"/>
            </a:endParaRPr>
          </a:p>
          <a:p>
            <a:pPr lvl="2" marL="114300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kann nicht selbständig laufen, Aktivierung durch Starten des Host-Programms</a:t>
            </a: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E4B0FF30-1B7F-42EF-A3E6-19A23698F2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a:t>
            </a:r>
            <a:endParaRPr b="0" lang="en-US" sz="4400" spc="-1" strike="noStrike">
              <a:solidFill>
                <a:srgbClr val="0066ff"/>
              </a:solidFill>
              <a:latin typeface="Times New Roman"/>
            </a:endParaRPr>
          </a:p>
        </p:txBody>
      </p:sp>
      <p:sp>
        <p:nvSpPr>
          <p:cNvPr id="146"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auch möglich: erstellen einer Prüfsumme (Hash-Wert) aus den Executable-Bytes, die bei Befall mit einem Virus theoretisch geändert werden sollt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peziell für System-Dateien (system binaries): genannt Tripwire</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 Prüfsumme kann auch nach Befall gleich sein, wenn Virus gut gebau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befall muss nach (!) der ersten Prüfsummenerstellung erfolgen</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CEB2339-ECF2-46F1-8ED6-7214647F04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 Probleme (1)</a:t>
            </a:r>
            <a:endParaRPr b="0" lang="en-US" sz="4400" spc="-1" strike="noStrike">
              <a:solidFill>
                <a:srgbClr val="0066ff"/>
              </a:solidFill>
              <a:latin typeface="Times New Roman"/>
            </a:endParaRPr>
          </a:p>
        </p:txBody>
      </p:sp>
      <p:sp>
        <p:nvSpPr>
          <p:cNvPr id="14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s ist ein wahres 'Wettrüsten' zwischen den Virus-Schreibern und -Bekämpfern entstand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che Viren versuchen, Scanner zu deaktivieren (und dann zu lösch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z.B. Suche nach Fenster, deren Titel bestimmten Text enthalten ('Norton AntiVirus', 'Anti-Vir', 'anti-virus'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bschießen' des Fenster-Prozesses durch SIGQUIT, WM_CLOSE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tealth'-Viren verstecken sich selber, wenn sie bestimmte Systemaufrufe (der Anti-Virus Software) feststellen -&gt; unsichtbar</a:t>
            </a:r>
            <a:endParaRPr b="1" lang="en-US" sz="1800" spc="-1" strike="noStrike">
              <a:solidFill>
                <a:srgbClr val="3366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46275EA8-C1EB-4E9A-A2DA-A939182A83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en-Scanner: Probleme (2)</a:t>
            </a:r>
            <a:endParaRPr b="0" lang="en-US" sz="4400" spc="-1" strike="noStrike">
              <a:solidFill>
                <a:srgbClr val="0066ff"/>
              </a:solidFill>
              <a:latin typeface="Times New Roman"/>
            </a:endParaRPr>
          </a:p>
        </p:txBody>
      </p:sp>
      <p:sp>
        <p:nvSpPr>
          <p:cNvPr id="150"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scanner werden 'ausgebrems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ipulation am Program Entry Point der befallen Executable in einer Weise, so dass der Scanner die ganze Datei vollständig durchsuchen mus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Zip Dateien enthalten monotonen Text, der, wenn vom Scanner dekomprimiert, viele MB groß ist</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DB4B7900-AE33-4864-AEE0-D02E71F298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anner: Verschlüsselte Viren</a:t>
            </a:r>
            <a:endParaRPr b="0" lang="en-US" sz="4400" spc="-1" strike="noStrike">
              <a:solidFill>
                <a:srgbClr val="0066ff"/>
              </a:solidFill>
              <a:latin typeface="Times New Roman"/>
            </a:endParaRPr>
          </a:p>
        </p:txBody>
      </p:sp>
      <p:sp>
        <p:nvSpPr>
          <p:cNvPr id="152"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 'verstecken' sich vor Scanner durch Verschlüssel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oft einfache Schlüsselung, die aber das Scannen verlangsamt, oder sogar zur Tarnung vor auf Geschwindigkeit ausgerichtete Scanner ausreich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rkennung des Virus durch Verschlüsselungs-Routine (die unverschlüsselt bleiben mus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 vielen Viren gleich</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eist nur 10-15 Bytes z.B.</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Ascii-Code(Virus-Codechar) = Ascii-Code(Virus-Codechar) Xor</a:t>
            </a:r>
            <a:r>
              <a:rPr b="1" lang="de-DE" sz="1600" spc="-1" strike="noStrike">
                <a:solidFill>
                  <a:srgbClr val="336699"/>
                </a:solidFill>
                <a:latin typeface="Arial"/>
              </a:rPr>
              <a:t>	</a:t>
            </a:r>
            <a:r>
              <a:rPr b="1" lang="de-DE" sz="1600" spc="-1" strike="noStrike">
                <a:solidFill>
                  <a:srgbClr val="336699"/>
                </a:solidFill>
                <a:latin typeface="Arial"/>
              </a:rPr>
              <a:t>Ascii-Code(Key)</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naue Zuordung zu Virus schwierig</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dentifizierungs-Fehler</a:t>
            </a:r>
            <a:endParaRPr b="1" lang="en-US" sz="1800" spc="-1" strike="noStrike">
              <a:solidFill>
                <a:srgbClr val="3366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C3401560-EB9B-4E45-B061-47D83E9CE1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anner: Polymorphe Viren</a:t>
            </a:r>
            <a:endParaRPr b="0" lang="en-US" sz="4400" spc="-1" strike="noStrike">
              <a:solidFill>
                <a:srgbClr val="0066ff"/>
              </a:solidFill>
              <a:latin typeface="Times New Roman"/>
            </a:endParaRPr>
          </a:p>
        </p:txBody>
      </p:sp>
      <p:sp>
        <p:nvSpPr>
          <p:cNvPr id="154"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en verändern ihre Gestalt, indem keine exakt gleiche Kopie erstellt wird (Polymorphe Viren)</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nstruktionen werden umgestellt (Funktion bleibt erhalten), oder es werden sinnlose Instruktionen hinzugefügt oder entfernt</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andboxing": evtl. befallene Datei wird auf einem geschützten virtuellen Computer ausgeführt </a:t>
            </a:r>
            <a:r>
              <a:rPr b="1" i="1" lang="de-DE" sz="1800" spc="-1" strike="noStrike">
                <a:solidFill>
                  <a:srgbClr val="336699"/>
                </a:solidFill>
                <a:latin typeface="Arial"/>
              </a:rPr>
              <a:t>(siehe nachfolgendes Bild)</a:t>
            </a:r>
            <a:endParaRPr b="1" lang="en-US" sz="18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nalyse des entschlüsselten Viru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 der Performanz:</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wann wird der Virus aktiv?</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Halteproblem</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081988A7-C98F-4E3A-8C9D-54D837CB43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VMWareInstallingWin98"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33C2F3F8-34BC-49F0-A30A-9C24B54F6E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Beseitigung von Viren</a:t>
            </a:r>
            <a:endParaRPr b="0" lang="en-US" sz="4400" spc="-1" strike="noStrike">
              <a:solidFill>
                <a:srgbClr val="0066ff"/>
              </a:solidFill>
              <a:latin typeface="Times New Roman"/>
            </a:endParaRPr>
          </a:p>
        </p:txBody>
      </p:sp>
      <p:sp>
        <p:nvSpPr>
          <p:cNvPr id="15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genaue Identifikation des Viruses oder der Virusfamilie in einer infizierten Datei</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Bereinigung unter Verwendung genauer Virus-Daten (Länge und Position des Replikators und der Payload u.a.)</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iederherstellung, Umbenennung oder Löschung der befallenen Datei</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ei Bootsektor-Viren muss mit Boot-Diskette gearbeitet werd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Löschen/Wiederherstellung von Registry-Einträg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DB32CAC1-04CF-4D84-B13D-B3A4F38134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Schutz vor Malware</a:t>
            </a:r>
            <a:endParaRPr b="0" lang="en-US" sz="4400" spc="-1" strike="noStrike">
              <a:solidFill>
                <a:srgbClr val="0066ff"/>
              </a:solidFill>
              <a:latin typeface="Times New Roman"/>
            </a:endParaRPr>
          </a:p>
        </p:txBody>
      </p:sp>
      <p:sp>
        <p:nvSpPr>
          <p:cNvPr id="1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bruchsvorbeugung:</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irewall (Kommunikation nur über wenige, vom Admin festgelegte ports)</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alle Microsoft-Executables in mails block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Schwachstellen in Code finden und beseitigen</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Buffer Overflow unmöglich machen (nicht strcpy() sondern strncpy() verwenden)</a:t>
            </a:r>
            <a:endParaRPr b="1" lang="en-US" sz="16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e umfangreichen Skripte erlauben (mißachtet in IE mit Java)</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FE1F9EE3-0997-4E50-8CCD-D73EF3D0EC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Einbruchsvorbeugung</a:t>
            </a:r>
            <a:endParaRPr b="0" lang="en-US" sz="4400" spc="-1" strike="noStrike">
              <a:solidFill>
                <a:srgbClr val="0066ff"/>
              </a:solidFill>
              <a:latin typeface="Times New Roman"/>
            </a:endParaRPr>
          </a:p>
        </p:txBody>
      </p:sp>
      <p:sp>
        <p:nvSpPr>
          <p:cNvPr id="16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geninitiativ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e unbekannten Anhänge öffn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Java ausschalten (IE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kro-Sicherheitsstufe auf 'hoch' stellen (MS Word, PPT etc.)</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kein Outlook verwend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generell kein Microsoft-Produkt verwenden ( ;) )</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9D673FFF-50F6-4312-A351-EB70938DD9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Einbruchserkennung</a:t>
            </a:r>
            <a:endParaRPr b="0" lang="en-US" sz="4400" spc="-1" strike="noStrike">
              <a:solidFill>
                <a:srgbClr val="0066ff"/>
              </a:solidFill>
              <a:latin typeface="Times New Roman"/>
            </a:endParaRPr>
          </a:p>
        </p:txBody>
      </p:sp>
      <p:sp>
        <p:nvSpPr>
          <p:cNvPr id="16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Einbrüche werden erkannt vom 'Intrusion Detection System'</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Überwachung von Netzwerkverkeh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robleme:</a:t>
            </a:r>
            <a:endParaRPr b="1" lang="en-US" sz="18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iel 'Müll' im Internet, kann fälschlich als Einbruch gewertet werden, z.B. bad packets von fehlerhafter Software, veraltete/kaputte DNS Daten und eigene, aus dem Internet zurückgekehrte Pakete</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viel mehr Müll als wirkliche Angriffe (schwer zu erkennen)</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SSL Verschlüsselung macht Malware für Filter unkenntlich</a:t>
            </a:r>
            <a:endParaRPr b="1" lang="en-US" sz="1600" spc="-1" strike="noStrike">
              <a:solidFill>
                <a:srgbClr val="336699"/>
              </a:solidFill>
              <a:latin typeface="Arial"/>
            </a:endParaRPr>
          </a:p>
          <a:p>
            <a:pPr lvl="2" marL="1143000" indent="-228600">
              <a:spcBef>
                <a:spcPts val="400"/>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Arial"/>
              </a:rPr>
              <a:t>Unwirtschaftlich: Einbruchsvorbeugung manchmal nur Fassade für Versicherer</a:t>
            </a:r>
            <a:endParaRPr b="1" lang="en-US" sz="1600" spc="-1" strike="noStrike">
              <a:solidFill>
                <a:srgbClr val="336699"/>
              </a:solidFill>
              <a:latin typeface="Arial"/>
            </a:endParaRPr>
          </a:p>
        </p:txBody>
      </p:sp>
      <p:sp>
        <p:nvSpPr>
          <p:cNvPr id="4" name="PlaceHolder 3"/>
          <p:cNvSpPr>
            <a:spLocks noGrp="1"/>
          </p:cNvSpPr>
          <p:nvPr>
            <p:ph type="sldNum" idx="3"/>
          </p:nvPr>
        </p:nvSpPr>
        <p:spPr/>
        <p:txBody>
          <a:bodyPr/>
          <a:p>
            <a:fld id="{158EFE6A-8A25-4892-B082-5DB63DA25B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a:t>
            </a:r>
            <a:endParaRPr b="0" lang="en-US" sz="4400" spc="-1" strike="noStrike">
              <a:solidFill>
                <a:srgbClr val="0066ff"/>
              </a:solidFill>
              <a:latin typeface="Times New Roman"/>
            </a:endParaRPr>
          </a:p>
        </p:txBody>
      </p:sp>
      <p:sp>
        <p:nvSpPr>
          <p:cNvPr id="9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esteht aus</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eplicator: reproduziert Virus</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Payload: sonstige Virus-Funktionen</a:t>
            </a:r>
            <a:endParaRPr b="1" lang="en-US" sz="20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Festplatte löschen oder formatieren</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Datum verstellen (hundert Jahre vor/zurück)</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Wörter in Textdateien vertauschen</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manchmal zu einem bestimmten Datum (z.B. Michelangelo‘s Geburtstag), sog. logische Bombe</a:t>
            </a:r>
            <a:endParaRPr b="1" lang="en-US" sz="1800" spc="-1" strike="noStrike">
              <a:solidFill>
                <a:srgbClr val="336699"/>
              </a:solidFill>
              <a:latin typeface="Arial"/>
            </a:endParaRPr>
          </a:p>
          <a:p>
            <a:pPr lvl="2" marL="1143000" indent="-228600">
              <a:spcBef>
                <a:spcPts val="451"/>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schlüsselung, Virus umbauen (Polymorphe Vir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B9712B05-1CAA-48A2-84DF-086ED22F2D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Weiterführende Links</a:t>
            </a:r>
            <a:endParaRPr b="0" lang="en-US" sz="4400" spc="-1" strike="noStrike">
              <a:solidFill>
                <a:srgbClr val="0066ff"/>
              </a:solidFill>
              <a:latin typeface="Times New Roman"/>
            </a:endParaRPr>
          </a:p>
        </p:txBody>
      </p:sp>
      <p:sp>
        <p:nvSpPr>
          <p:cNvPr id="16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wildlist.org/</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Informationen von über 64 Firmen und sonstigen Teilnehmern</a:t>
            </a:r>
            <a:endParaRPr b="1" lang="en-US" sz="18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über 200 aktuelle Viren</a:t>
            </a:r>
            <a:endParaRPr b="1" lang="en-US" sz="1800" spc="-1" strike="noStrike">
              <a:solidFill>
                <a:srgbClr val="3366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bsi.bund.de/</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Bundesamt für Sicherheit in der Informationstechnik</a:t>
            </a:r>
            <a:endParaRPr b="1" lang="en-US" sz="18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neueste Malware-News vollständig und verständlich aufgeführt</a:t>
            </a:r>
            <a:endParaRPr b="1" lang="en-US" sz="1800" spc="-1" strike="noStrike">
              <a:solidFill>
                <a:srgbClr val="336699"/>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39480" indent="-3394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louis@toricxs.com:</a:t>
            </a:r>
            <a:endParaRPr b="1" lang="en-US" sz="2000" spc="-1" strike="noStrike">
              <a:solidFill>
                <a:srgbClr val="336699"/>
              </a:solidFill>
              <a:latin typeface="Arial"/>
            </a:endParaRPr>
          </a:p>
          <a:p>
            <a:pPr lvl="1" marL="735480" indent="-28296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Interessierte können mir mailen für den Code eines simplen VC++ Keyloggers, versteckt als Trojaner in Duke Nukem 1</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AE9751B-3D04-440B-B096-82D24485E4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Quellen</a:t>
            </a:r>
            <a:endParaRPr b="0" lang="en-US" sz="4400" spc="-1" strike="noStrike">
              <a:solidFill>
                <a:srgbClr val="0066ff"/>
              </a:solidFill>
              <a:latin typeface="Times New Roman"/>
            </a:endParaRPr>
          </a:p>
        </p:txBody>
      </p:sp>
      <p:sp>
        <p:nvSpPr>
          <p:cNvPr id="167"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 Anderson, Security Engineering, Wiley 2001</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crypto.stanford.edu/cs155/lecture12.pdf (25.02.2004)</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linux.about.com/</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www.heise.de</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secunia.com/multiple_browsers_frame_injection_vulnerability_test/</a:t>
            </a:r>
            <a:endParaRPr b="1"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http://www.cs.cornell.edu/html/cs513-sp98/L03.html</a:t>
            </a:r>
            <a:endParaRPr b="1" lang="en-US" sz="2000" spc="-1" strike="noStrike">
              <a:solidFill>
                <a:srgbClr val="336699"/>
              </a:solidFill>
              <a:latin typeface="Arial"/>
            </a:endParaRPr>
          </a:p>
        </p:txBody>
      </p:sp>
      <p:sp>
        <p:nvSpPr>
          <p:cNvPr id="4" name="PlaceHolder 3"/>
          <p:cNvSpPr>
            <a:spLocks noGrp="1"/>
          </p:cNvSpPr>
          <p:nvPr>
            <p:ph type="sldNum" idx="3"/>
          </p:nvPr>
        </p:nvSpPr>
        <p:spPr/>
        <p:txBody>
          <a:bodyPr/>
          <a:p>
            <a:fld id="{2E539BA8-608F-4981-9E18-7A9735CA60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0160" y="1371240"/>
            <a:ext cx="777240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ff"/>
                </a:solidFill>
                <a:latin typeface="Times New Roman"/>
              </a:rPr>
              <a:t>“</a:t>
            </a:r>
            <a:r>
              <a:rPr b="0" lang="de-DE" sz="2400" spc="-1" strike="noStrike">
                <a:solidFill>
                  <a:srgbClr val="0066ff"/>
                </a:solidFill>
                <a:latin typeface="Times New Roman"/>
              </a:rPr>
              <a:t>You do get a rush from doing it – definitely.” </a:t>
            </a:r>
            <a:br>
              <a:rPr sz="2400"/>
            </a:br>
            <a:r>
              <a:rPr b="0" lang="de-DE" sz="2400" spc="-1" strike="noStrike">
                <a:solidFill>
                  <a:srgbClr val="0066ff"/>
                </a:solidFill>
                <a:latin typeface="Times New Roman"/>
              </a:rPr>
              <a:t>“I’m like your nosy neighbor on steroids, basically.”</a:t>
            </a:r>
            <a:br>
              <a:rPr sz="2000"/>
            </a:br>
            <a:endParaRPr b="0" lang="en-US" sz="2400" spc="-1" strike="noStrike">
              <a:solidFill>
                <a:srgbClr val="0066ff"/>
              </a:solidFill>
              <a:latin typeface="Times New Roman"/>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Raphael Gray (aka Curador)</a:t>
            </a:r>
            <a:br>
              <a:rPr sz="2000"/>
            </a:br>
            <a:br>
              <a:rPr sz="2000"/>
            </a:br>
            <a:r>
              <a:rPr b="1" lang="de-DE" sz="2000" spc="-1" strike="noStrike">
                <a:solidFill>
                  <a:srgbClr val="336699"/>
                </a:solidFill>
                <a:latin typeface="Arial"/>
              </a:rPr>
              <a:t>   [stole and posted 26,000 credit card numbers]</a:t>
            </a:r>
            <a:endParaRPr b="1" lang="en-US" sz="2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1)</a:t>
            </a:r>
            <a:endParaRPr b="0" lang="en-US" sz="4400" spc="-1" strike="noStrike">
              <a:solidFill>
                <a:srgbClr val="0066ff"/>
              </a:solidFill>
              <a:latin typeface="Times New Roman"/>
            </a:endParaRPr>
          </a:p>
        </p:txBody>
      </p:sp>
      <p:sp>
        <p:nvSpPr>
          <p:cNvPr id="101"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Boot Virus</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on Anfang an Speicherresident (vor Scanner)</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opulär in DOS- und Disketten-Zeit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E77044F7-F00E-4153-8F3A-AEEA38CD96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2)</a:t>
            </a:r>
            <a:endParaRPr b="0" lang="en-US" sz="4400" spc="-1" strike="noStrike">
              <a:solidFill>
                <a:srgbClr val="0066ff"/>
              </a:solidFill>
              <a:latin typeface="Times New Roman"/>
            </a:endParaRPr>
          </a:p>
        </p:txBody>
      </p:sp>
      <p:sp>
        <p:nvSpPr>
          <p:cNvPr id="10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irus in Executable</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rsetzt die erste Prozessor-Instruktion der Executable durch einen Sprungbefehl in den Virus-Code, der meist am Ende der Datei angehängt wurde</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irus versucht, andere Dateien zu infizieren, zerstört möglicherweise Dat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Rückkehr in den ursprünglichen Executable-Code</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727C84DD-1061-4086-AC3F-4CC3A68B78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66ff"/>
                </a:solidFill>
                <a:latin typeface="Times New Roman"/>
              </a:rPr>
              <a:t>Virus-Kategorien (3)</a:t>
            </a:r>
            <a:endParaRPr b="0" lang="en-US" sz="4400" spc="-1" strike="noStrike">
              <a:solidFill>
                <a:srgbClr val="0066ff"/>
              </a:solidFill>
              <a:latin typeface="Times New Roman"/>
            </a:endParaRPr>
          </a:p>
        </p:txBody>
      </p:sp>
      <p:sp>
        <p:nvSpPr>
          <p:cNvPr id="10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Makro-Virus (in Datei, wird von einer Anwendung ausgeführt)</a:t>
            </a:r>
            <a:endParaRPr b="1" lang="en-US" sz="20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populär: Visual Basic Script Viren in MS Word</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einfach, von 'Script-Kiddies' geschrieben</a:t>
            </a:r>
            <a:endParaRPr b="1" lang="en-US" sz="1800" spc="-1" strike="noStrike">
              <a:solidFill>
                <a:srgbClr val="336699"/>
              </a:solidFill>
              <a:latin typeface="Arial"/>
            </a:endParaRPr>
          </a:p>
          <a:p>
            <a:pPr lvl="1" marL="743040" indent="-285840">
              <a:spcBef>
                <a:spcPts val="45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6699"/>
                </a:solidFill>
                <a:latin typeface="Arial"/>
              </a:rPr>
              <a:t>verbreitet sich unbemerkt mit den Dokumenten</a:t>
            </a:r>
            <a:endParaRPr b="1" lang="en-US" sz="1800" spc="-1" strike="noStrike">
              <a:solidFill>
                <a:srgbClr val="336699"/>
              </a:solidFill>
              <a:latin typeface="Arial"/>
            </a:endParaRPr>
          </a:p>
        </p:txBody>
      </p:sp>
      <p:sp>
        <p:nvSpPr>
          <p:cNvPr id="4" name="PlaceHolder 3"/>
          <p:cNvSpPr>
            <a:spLocks noGrp="1"/>
          </p:cNvSpPr>
          <p:nvPr>
            <p:ph type="sldNum" idx="3"/>
          </p:nvPr>
        </p:nvSpPr>
        <p:spPr/>
        <p:txBody>
          <a:bodyPr/>
          <a:p>
            <a:fld id="{99AA318D-178E-49FB-AA8A-F07E0464FA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MakroVirusEdit"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254303B1-1876-4D63-9922-954A2223AB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MakroVirusRun" descr=""/>
          <p:cNvPicPr/>
          <p:nvPr/>
        </p:nvPicPr>
        <p:blipFill>
          <a:blip r:embed="rId1"/>
          <a:stretch/>
        </p:blipFill>
        <p:spPr>
          <a:xfrm>
            <a:off x="-304920" y="-228600"/>
            <a:ext cx="9753840" cy="7315200"/>
          </a:xfrm>
          <a:prstGeom prst="rect">
            <a:avLst/>
          </a:prstGeom>
          <a:ln w="0">
            <a:noFill/>
          </a:ln>
        </p:spPr>
      </p:pic>
      <p:sp>
        <p:nvSpPr>
          <p:cNvPr id="2" name="PlaceHolder 1"/>
          <p:cNvSpPr>
            <a:spLocks noGrp="1"/>
          </p:cNvSpPr>
          <p:nvPr>
            <p:ph type="sldNum" idx="3"/>
          </p:nvPr>
        </p:nvSpPr>
        <p:spPr/>
        <p:txBody>
          <a:bodyPr/>
          <a:p>
            <a:fld id="{4827AA63-A051-4785-984F-170F5B412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Dawson</cp:lastModifiedBy>
  <cp:lastPrinted>2004-07-21T19:32:28Z</cp:lastPrinted>
  <dcterms:modified xsi:type="dcterms:W3CDTF">2004-07-21T20:46:41Z</dcterms:modified>
  <cp:revision>44</cp:revision>
  <dc:subject/>
  <dc:title>Viren, Würmer und Trojaner</dc:title>
</cp:coreProperties>
</file>